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CA89-E345-49D1-B702-B53130D0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4D18-44D9-482F-B239-987994BA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3D0-9FBC-44C4-8F54-8F3B1076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1BE-7372-4C99-8051-AD13CBAD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1120-C619-448A-9CD9-9E42550C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AF18-E20D-4AFD-9EC5-0C8EF4BC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7CCE-DFB9-435B-925F-DB96F41C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1A04-1366-4566-8BBE-10CC872C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866D-62B1-4E3F-8D58-A7B16FFB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71A2-0177-40CD-9597-3D2DD355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9FED-DBEE-4739-A37B-1C2937C2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A8A-4933-4198-80BA-6F0CDFCC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C26F-0FA1-4CB1-A81A-E775349700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xwyjs.edu.cn/20020812/3063983.s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0976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0" y="174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四光，中国地质事业的奠基者和领导人。他毕生从事地质科学的研究和教育事业，成就卓著，蜚声海内外，是我国冰川学研究的奠基人。他独创的地质力学理论，为我国的地质、石油勘探和建设事业做出了巨大贡献。</a:t>
            </a:r>
            <a:r>
              <a:rPr b="1" lang="zh-CN" sz="3600" spc="-1" strike="noStrike">
                <a:solidFill>
                  <a:srgbClr val="f3f6fa"/>
                </a:solidFill>
                <a:latin typeface="楷体_GB2312"/>
                <a:ea typeface="楷体_GB2312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258200" y="177840"/>
            <a:ext cx="10542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坑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藏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考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秦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域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遗    震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6680" y="2955960"/>
            <a:ext cx="810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著   悄  闪  卧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推   旅  纪  究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52280" y="392040"/>
            <a:ext cx="3471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思考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奇怪的大石头，“怪”在哪里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9040" y="2863800"/>
            <a:ext cx="2009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李四光是如何思考和解决自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问题的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320" y="453960"/>
            <a:ext cx="90676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陨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大的流星在经过地球大气层时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没有完全烧毁坠落到地球上的含石质较多或全部为石质的陨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地质学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从事地球物质形成和地壳构造研究，以探讨地球的形成和发展的科学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突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高耸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76320" y="304920"/>
            <a:ext cx="929664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第四纪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地质历史的最后一个纪。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距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年前至今。此时高纬度地区广泛地发生了多次冰川作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秦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横贯我国中部，东西走向的古老褶皱断层山脉。我国地理上的南北分解线。分布有冰川槽谷、角峰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457200"/>
            <a:ext cx="8686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冰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在高山或两极地区，积雪由于自身的压力变成冰块（或积雪融化、下渗冻结成冰块），又因重力作用而沿着地面倾斜方面移动，这种移动的大冰块叫做冰川。在地质上的新生代第四纪，气候非常寒冷，世界上的许多地方被冰川覆盖，称第四纪冰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141720" y="5983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极冰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85341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52040" y="58514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极科学家拍摄到的海上冰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29720" y="57913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四纪冰川遗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5414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343320" y="57546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唐古拉山冰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52280"/>
            <a:ext cx="9448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奇怪  著名  悄悄  躲闪 兴趣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历史  平整  旅行  专门 考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秦岭  遗迹  研究  成果 震惊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卧室 土坑  推测   世纪  纪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质学家     严严实实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捉迷藏        转来转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4:22:08Z</dcterms:created>
  <dc:creator>a</dc:creator>
  <dc:description/>
  <dc:language>en-US</dc:language>
  <cp:lastModifiedBy>Sunshine</cp:lastModifiedBy>
  <dcterms:modified xsi:type="dcterms:W3CDTF">2006-05-08T21:49:38Z</dcterms:modified>
  <cp:revision>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02000000000001024120</vt:lpwstr>
  </property>
</Properties>
</file>